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A1C-E1C9-4CE3-AB25-93EEA578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0A8-9FCD-406F-B7D9-FB27D1CD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509-8A8A-4311-A21B-04C694D2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550-BFE4-47F5-A393-E61BCA9C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417C-180A-449A-874E-E3B9A6A2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E365-E68C-4604-8FB7-93CD3C2F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94CA-7BCB-44D7-9EE2-EA36C927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F950-95B9-4B0C-8874-0FE612F4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69EA-3A42-4DE8-85F0-54B04CDB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D386-5437-45AB-8645-8DC646C6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6FB9-F10C-4505-B880-F3A0663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8BF-8FE0-410B-9967-5ECB821F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F15-0951-4840-9AEA-C1975625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4EE8-6092-45D1-93DA-6713EF1B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5A2F-1678-4797-A93E-CC128DD1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420-BF2B-4DC0-A4A2-101BDDD3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8220-29BD-46BB-BE64-F10173CF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D88-8408-4BFA-B0D2-24D31E5E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DAF-63BE-4EA0-BE5B-55BFC94C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753-5C15-4926-BEFE-42BF823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F42-B271-450B-9435-B7787772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37F-5E3B-4932-AB9C-AA6381F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D76-C5E7-45DE-BA91-16EFF8A9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ACB-8F43-4C4B-9C06-FCFBE775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ECE7-1B0C-42DF-814A-27E33565B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7CE-76C9-476B-A6C3-D9EBBB86C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Osmosis and Diffus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aspects of the life of a cell depend on the fact that atoms and molecules have kinetic energy and are constantly in mo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kinetic energy causes molecules to bump into each other and move in new dir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result of this molecular motion is the process of diffu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1048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Diffus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random movement of molecules from an area of higher concentration of those molecules to an area of lower concent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– if we were to open a bottle of hydrogen sulfide (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, smells like rotten eggs) in one corner of a room, it would not be long before someone in the opposite corner would smell rotten eggs.  Eventually equilibrium will be reached, the concentration of 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will be approximately equal throughout the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pecial case of dif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m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h to 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at water will move from an area of high water concentration to low water concentration through a selectively permeable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4:07:53Z</dcterms:created>
  <dc:creator>Clear Creek ISD</dc:creator>
  <dc:description/>
  <dc:language>en-US</dc:language>
  <cp:lastModifiedBy>Clear Creek ISD</cp:lastModifiedBy>
  <dcterms:modified xsi:type="dcterms:W3CDTF">2009-11-02T13:42:51Z</dcterms:modified>
  <cp:revision>6</cp:revision>
  <dc:subject/>
  <dc:title>Osmosis and Diffusion</dc:title>
</cp:coreProperties>
</file>